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3FF-3837-4DA5-903F-C7A9AB8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AF4-0D40-4178-A661-E320197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684-7AED-414B-AAA2-28AFC323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D26-6D01-43D7-8CA1-F9BE73C1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727-CA57-4712-9B92-01894AF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BB0-2329-4E0E-9AA1-A0833DA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4E7-4298-4941-AD11-D850C35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65D-CE26-482A-8C40-16F57A05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7F8-5CAF-4C14-93DD-C86DB2E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E12-9737-4996-84D2-5EA0E19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E6A-7706-4F5A-ADB9-05B783D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7C3-10D3-43DB-A33D-2711F5E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6D8C-ADD3-4C98-8987-4F3A60A85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2 Ako hviezdy jasný sv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hviezdy jasný svi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el k púti povzbud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Spásu hľadať š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ju v jasliach nenaš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nech, Pane, pravdy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ou k tebe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čo krok zrýchl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divom dych taj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ad zjavom užas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Dieťaťu pokľak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nech stále nieti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ť Pána, kým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z nich tam vzácny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žil ako na oltá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n príklad vzneš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 a poškvr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aj pre nás vzoro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máme Pána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svätý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olávaj v nás nechuť, li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túžba nezhy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raz tvoje spas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žiadna žiara hviez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ude nás musieť vi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4:21Z</dcterms:modified>
  <cp:revision>29</cp:revision>
  <dc:subject/>
  <dc:title>Je veľký náš Pán, on slávy je Kráľ Nech do všetkých strán  spev vrúcnych znie chvál.</dc:title>
</cp:coreProperties>
</file>